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90B-4857-4A7D-A3E4-3DD53058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57B-E703-4269-9AFB-F81FC7C2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DC3-9CE0-4359-B9F6-D1F5E9A2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BAB-4ED1-4521-AD84-EDCE5C61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59529-0CC8-4E1D-B7CD-94F4F872DF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C9B96-C000-458C-812B-1B9D798E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7C0DC-1423-43A5-B786-E8427EC8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AEABD-C4CF-4AC9-97A7-805BB972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E4864-6366-4D17-9706-4BF3AF58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B15F7-32FD-4CB0-BACD-575D03D5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25C9E-4968-49C6-9FBF-6A0CB23D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6C1-5918-44BE-8417-748E0190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937BC-241B-4479-A2F9-2F60F799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A8604-2FC6-4568-81AD-D333B52A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84E7D-8CB4-40EB-8D5E-397B77E5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87691-5019-4D3B-9155-A806CD85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3C25E-AC2D-4C77-9F1D-71D6D9FB74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5E63-72A7-4D46-ABA6-00E90221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3197-7D1C-49F6-B65A-4103EBC6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107-15AB-442B-BED6-0CC03427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EFF7-EBD2-4761-B81D-92C74030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7762-46A1-432C-858A-B5970F0D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B287-04AD-4CE1-A169-42B74F53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FB44-0DF9-4525-ADA5-1CF275A3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FA759-E8FD-4634-AB2B-E9E0929AAE40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875D5-C6BD-4B82-A108-CCC6BB3824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4609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019920"/>
            <a:ext cx="21337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EC4B7-5C57-4CEF-824D-2349390ACA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5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gressional Ele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12 – Congres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235240" y="1720800"/>
            <a:ext cx="46958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gressional Ele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feating Incumb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ne tarnished by scandal or corruption becomes vulnerable to a challeng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istricting may weaken the incumbency advanta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jor political tidal wave may defeat incumb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gressional Ele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en Sea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reater likelihood of compet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st turnover occurs in open sea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bility and Chan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umbents provide stability in Congr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ange in Congress occurs less frequently through ele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 term limits an answer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Representatives and Senat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Jo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alary of $168,500 with retirement benef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ffice space in D.C. and at home with staf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vel allowances and franking privileg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quires long hours, a lot of time away from family, and pressure from others to support their polic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Representatives and Senat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17" descr=""/>
          <p:cNvPicPr/>
          <p:nvPr/>
        </p:nvPicPr>
        <p:blipFill>
          <a:blip r:embed="rId2"/>
          <a:srcRect l="29376" t="28084" r="28750" b="13000"/>
          <a:stretch/>
        </p:blipFill>
        <p:spPr>
          <a:xfrm>
            <a:off x="950760" y="1828800"/>
            <a:ext cx="7240680" cy="44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gressional Ele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o Wins Elections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umbents: Those already holding offic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2"/>
          <a:stretch/>
        </p:blipFill>
        <p:spPr>
          <a:xfrm>
            <a:off x="1066680" y="2743200"/>
            <a:ext cx="7086600" cy="3527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gressional Ele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Advantages of Incumb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vertis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goal is to be visible to your constitu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requent trips home, use of newsletter, and technolog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dit Claim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rvice to constituents through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sework: specifically helping constituents get what they think they have a right t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ork Barrel: federal projects, grants, etc. made available in a congressional district or stat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gressional Ele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Advantages of Incumb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sition Tak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ortray themselves as hard working, dedicated individua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ccasionally take a partisan stand on an iss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ak Opponent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experienced in politics, unorganized, and underfund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mpaign Spend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hallengers need to raise large sums to defeat an incumb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ACs give most of their money to incumb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oes PAC money “buy” votes in Congres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gressional Ele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Role of Party Ident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st members represent the majority party in their district, and most who identify with a party reliably vote for its candida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errymandering: manipulate the boundaries of (an electoral constituency) so as to favor one par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2"/>
          <a:stretch/>
        </p:blipFill>
        <p:spPr>
          <a:xfrm>
            <a:off x="2670120" y="307800"/>
            <a:ext cx="420696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llinois’ 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Congressional Distri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1204920" y="1417680"/>
            <a:ext cx="673092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3:44:09Z</dcterms:created>
  <dc:creator>Katie Madison</dc:creator>
  <dc:description/>
  <dc:language>en-US</dc:language>
  <cp:lastModifiedBy>Katie Madison</cp:lastModifiedBy>
  <dcterms:modified xsi:type="dcterms:W3CDTF">2011-01-06T20:14:12Z</dcterms:modified>
  <cp:revision>3</cp:revision>
  <dc:subject/>
  <dc:title>Congressional Elections</dc:title>
</cp:coreProperties>
</file>